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8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3.png" ContentType="image/png"/>
  <Override PartName="/ppt/media/image7.png" ContentType="image/png"/>
  <Override PartName="/ppt/media/image30.jpeg" ContentType="image/jpeg"/>
  <Override PartName="/ppt/media/image1.jpeg" ContentType="image/jpeg"/>
  <Override PartName="/ppt/media/image10.png" ContentType="image/png"/>
  <Override PartName="/ppt/media/image25.gif" ContentType="image/gif"/>
  <Override PartName="/ppt/media/image6.jpeg" ContentType="image/jpeg"/>
  <Override PartName="/ppt/media/image3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3.jpeg" ContentType="image/jpeg"/>
  <Override PartName="/ppt/media/image1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42E-FBEF-4CAF-A9B6-539535B2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A58-508C-4029-A366-1F818081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BB892-4D48-4AAC-8395-80CDFC2A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E02-1820-4280-B363-29009D65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BE197-3DDC-48F9-84C4-B05779F7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76B4E-10B8-4059-8524-5516B1DA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E704-85C6-4601-9002-06DA8B66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335B3-BC72-49C5-ACB1-28940E89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30730-00A7-40B7-88CF-30673E96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56423-202D-4223-822C-21A61851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7A1D3-194E-4675-BF2E-287C58A8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CEE16-BD89-411A-AB9A-E7AEFB1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29FA2-7314-472B-8262-19F3445F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2C6CD-C42F-44FE-A779-630F7851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3E0-500E-4D08-9C9A-1293A2E3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3BE66-4BAF-4A78-8E5C-278C8C0E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D986-AFA0-4C37-8C5C-54401D32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2BF8-C7F4-417C-BE09-5EBCB532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7B682-548F-4B83-8EBD-8C189DB2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66E6F-7C10-4CFB-AA4C-ED9EBE55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7C368-6AFF-43ED-BCA9-BFD6AA16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86A92-5CC9-4413-897B-E261F9A1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23335-ADB5-46F2-BE23-BC169097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340D-C4E3-4FC8-A27C-3279D82B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42B62-EFE3-48EA-8F44-F844AC93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0D74B-E04E-4531-8ADA-D090E81F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DEF6B-9174-4457-8ED9-6688A3F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06025-F609-4DFF-AB29-C20044D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A9782-2297-4A6E-A5F4-33788027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CDCCA-D3B8-4A3E-9106-60F64DC7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0C2D0-9AD6-4E9C-80F6-97F01D7B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7081-80C4-4223-8E98-2BEA5ACA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7B91-09E5-4F0B-B14F-F81E079D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25E6-89ED-4401-A7FA-510754E8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B81A-B62D-4A15-87F9-7C53B3FE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147-D627-4CF3-83C0-3850E3F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CD21-7546-4E35-9A27-3D87292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F635-FB82-4423-8B75-F583D0C1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1694-A3F8-4D23-BADF-F45992ED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14BB-E153-4725-ACAD-7A875561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24B4-1902-4E55-9ECB-A2AD24ED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582F-19FE-4FDC-9973-60C4FC7E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3DB0-73F5-48AC-A529-721AF0C1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DDA6-00CC-4B4F-9165-DFFC6154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E086-F766-48B3-98C5-63FA4626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E370-AE69-4907-9298-2D6C63E7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12E-C70B-4514-BD1E-A653E82E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06B1-ECB9-46DA-B251-D157B83E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E71C-BD53-48CC-88F0-15355E6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C007-79AC-497C-9E5B-2DEB77EA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4183-B053-4CB4-948A-4E29FBE4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46B1-9C1A-4B2D-AF8D-FD423E87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096F-DE15-4663-94BD-DBB680A2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F654-3BEE-4522-BD16-974A9FB7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3A81-E550-4019-B51E-BAA45DB6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92A67-E6D6-4DBA-BFBC-69DC0F3B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CFE2-1D17-422B-A83D-CD8A439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339-2EDF-4CD4-8736-3CCE89B9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605B-92C6-43BA-99E3-16BB1EF8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9DC9-3E5C-457C-A7C5-A74D008F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86C2-E47F-4460-A7A9-4807461B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AC4A-75B3-4325-AC8F-5CE35712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8435-9A58-4AC2-8A75-FD406040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80AD-F787-4685-9973-AFE8E2C4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680B-28BD-49BC-AFBB-2BD28884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3F38-DE83-4920-8C02-124F7605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C823-69CD-4ABE-BE84-24CBD6B1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6A308-B89C-4993-81C4-8B8DE86F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5FA-C1B4-46ED-B10A-6A3F4B15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0FDAE-ACCD-44C2-A1A3-66346BD3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3921-5363-4A56-91BC-531FC840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FE5FA-245A-4285-9227-C7A867BC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8547-3A9C-4608-B5C5-9CC57654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8A21E-EF12-49DB-A937-1EA9F10B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2CF8-6CC1-47C3-96FC-536B99D8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89979-408E-4CA2-878A-DE02CFCF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F1EF2-751F-4487-8D2E-D809FEA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8ECE-4676-489E-816E-644EEF2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2245-2096-4B80-9A86-1AB220A4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F40-5403-474A-BA4F-5374B3E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8AF01-4E6F-4502-B3FE-AECABE69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B38-6FDB-4619-93B8-42F89FC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F5BC-B668-472E-A09A-73014717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D109-F170-42AA-B0AF-A9FEE5D6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A63CE-D28A-4470-9A92-9286FB24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A739-B6B8-494D-9D12-0D17C85E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B0A8-C59C-43AD-A937-830D644A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A741-A97B-4061-84F0-10D404F9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CC087-285E-435B-9797-360E4B1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420-A180-48AF-9E3A-4390577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10A90-BE94-4CF3-9B10-CC66488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EA9E8-45CA-4425-8A42-A4F7EEC1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09EA1-688F-4A40-8C9D-0596BE3E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7081B-0F8A-4482-8EA6-11D81ACC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1B169-B528-4F19-B36A-3B52071F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DDE-CD67-46DE-BB5D-6F0D64B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B0A6-126C-45AD-A836-8067558C9C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9172-A24D-4C5B-A866-128E167780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05473" descr="学英语报社社标s"/>
          <p:cNvPicPr/>
          <p:nvPr/>
        </p:nvPicPr>
        <p:blipFill>
          <a:blip r:embed="rId3"/>
          <a:stretch/>
        </p:blipFill>
        <p:spPr>
          <a:xfrm>
            <a:off x="7848720" y="6369120"/>
            <a:ext cx="129528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08545" descr="学英语报社社标s"/>
          <p:cNvPicPr/>
          <p:nvPr/>
        </p:nvPicPr>
        <p:blipFill>
          <a:blip r:embed="rId3"/>
          <a:stretch/>
        </p:blipFill>
        <p:spPr>
          <a:xfrm>
            <a:off x="8153280" y="6453360"/>
            <a:ext cx="990720" cy="38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3BE7-6583-428F-950B-1D0FFA2842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126977" descr="学英语报社社标s"/>
          <p:cNvPicPr/>
          <p:nvPr/>
        </p:nvPicPr>
        <p:blipFill>
          <a:blip r:embed="rId3"/>
          <a:stretch/>
        </p:blipFill>
        <p:spPr>
          <a:xfrm>
            <a:off x="7848720" y="6369120"/>
            <a:ext cx="129528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1AA9-D662-440F-B466-D810BB0818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57BB-8790-46DD-9B84-70D09AEEFD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6150" descr="学英语报社社标s"/>
          <p:cNvPicPr/>
          <p:nvPr/>
        </p:nvPicPr>
        <p:blipFill>
          <a:blip r:embed="rId3"/>
          <a:stretch/>
        </p:blipFill>
        <p:spPr>
          <a:xfrm>
            <a:off x="7848720" y="6369120"/>
            <a:ext cx="129528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6FB4-4F7E-4745-BFD8-272193BC67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3AEA-401C-480C-8DC1-237B172D44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59393" descr="学英语报社社标s"/>
          <p:cNvPicPr/>
          <p:nvPr/>
        </p:nvPicPr>
        <p:blipFill>
          <a:blip r:embed="rId3"/>
          <a:stretch/>
        </p:blipFill>
        <p:spPr>
          <a:xfrm>
            <a:off x="7956720" y="6399360"/>
            <a:ext cx="118728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0E11-C5B1-4DE1-B60D-2DB2AB6F38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77830" descr="学英语报社社标s"/>
          <p:cNvPicPr/>
          <p:nvPr/>
        </p:nvPicPr>
        <p:blipFill>
          <a:blip r:embed="rId3"/>
          <a:stretch/>
        </p:blipFill>
        <p:spPr>
          <a:xfrm>
            <a:off x="7848720" y="6369120"/>
            <a:ext cx="129528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94209" descr="学英语报社社标s"/>
          <p:cNvPicPr/>
          <p:nvPr/>
        </p:nvPicPr>
        <p:blipFill>
          <a:blip r:embed="rId3"/>
          <a:stretch/>
        </p:blipFill>
        <p:spPr>
          <a:xfrm>
            <a:off x="7848720" y="6369120"/>
            <a:ext cx="129528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google.com/imgres?imgurl=www.savannahnow.com/features/NIE/Reproducibles/art/teacher.gif&amp;imgrefurl=http://www.savannahnow.com/features/NIE/reproducibles.shtml&amp;h=214&amp;w=148&amp;prev=/images%3Fq%3Dteacher%26start%3D340%26svnum%3D10%26hl%3Dzh-CN%26lr%3D%26ie%3DUTF-8%26oe%3DUTF-8%26sa%3DN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组合 72705"/>
          <p:cNvGrpSpPr/>
          <p:nvPr/>
        </p:nvGrpSpPr>
        <p:grpSpPr>
          <a:xfrm>
            <a:off x="2556000" y="2205000"/>
            <a:ext cx="4320720" cy="2430000"/>
            <a:chOff x="2556000" y="2205000"/>
            <a:chExt cx="4320720" cy="2430000"/>
          </a:xfrm>
        </p:grpSpPr>
        <p:pic>
          <p:nvPicPr>
            <p:cNvPr id="552" name="Picture 3" descr="图片3"/>
            <p:cNvPicPr/>
            <p:nvPr/>
          </p:nvPicPr>
          <p:blipFill>
            <a:blip r:embed="rId2"/>
            <a:stretch/>
          </p:blipFill>
          <p:spPr>
            <a:xfrm>
              <a:off x="2556000" y="2205000"/>
              <a:ext cx="423828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 Box 4"/>
            <p:cNvSpPr/>
            <p:nvPr/>
          </p:nvSpPr>
          <p:spPr>
            <a:xfrm>
              <a:off x="2963520" y="3236760"/>
              <a:ext cx="391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99"/>
                  </a:solidFill>
                  <a:latin typeface="Verdana"/>
                </a:rPr>
                <a:t>Section 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99"/>
                  </a:solidFill>
                  <a:latin typeface="Verdana"/>
                </a:rPr>
                <a:t>Period Tw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Text Box 2"/>
          <p:cNvSpPr/>
          <p:nvPr/>
        </p:nvSpPr>
        <p:spPr>
          <a:xfrm>
            <a:off x="1260000" y="620640"/>
            <a:ext cx="71240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Unit 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was your school trip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图片 72709" descr="QQ截图20150202161914"/>
          <p:cNvPicPr/>
          <p:nvPr/>
        </p:nvPicPr>
        <p:blipFill>
          <a:blip r:embed="rId3"/>
          <a:stretch/>
        </p:blipFill>
        <p:spPr>
          <a:xfrm>
            <a:off x="3274920" y="4797360"/>
            <a:ext cx="2881440" cy="1522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矩形 139285"/>
          <p:cNvSpPr txBox="1"/>
          <p:nvPr/>
        </p:nvSpPr>
        <p:spPr>
          <a:xfrm>
            <a:off x="900000" y="2205000"/>
            <a:ext cx="755964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Language points 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2" name="图片 139286" descr="teach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437000"/>
            <a:ext cx="1274760" cy="1513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文本框 120838"/>
          <p:cNvSpPr/>
          <p:nvPr/>
        </p:nvSpPr>
        <p:spPr>
          <a:xfrm>
            <a:off x="250920" y="171360"/>
            <a:ext cx="85690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ll in 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 it was an exciting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总之，这是令人兴奋的一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文本框 120839"/>
          <p:cNvSpPr/>
          <p:nvPr/>
        </p:nvSpPr>
        <p:spPr>
          <a:xfrm>
            <a:off x="250920" y="1512720"/>
            <a:ext cx="8497800" cy="614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4f3"/>
                </a:solidFill>
                <a:latin typeface="Times New Roman"/>
              </a:rPr>
              <a:t>all in all  </a:t>
            </a:r>
            <a:r>
              <a:rPr b="1" lang="zh-CN" sz="3600" spc="-1" strike="noStrike">
                <a:solidFill>
                  <a:srgbClr val="0734f3"/>
                </a:solidFill>
                <a:latin typeface="Times New Roman"/>
                <a:ea typeface="宋体"/>
              </a:rPr>
              <a:t>总的说来；总之；整体上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文本框 120840"/>
          <p:cNvSpPr/>
          <p:nvPr/>
        </p:nvSpPr>
        <p:spPr>
          <a:xfrm>
            <a:off x="395280" y="216072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l in 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I think you did a good jo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总的说来，我认为你干得很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l in 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it was a great suc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总之，是很成功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组合 120841"/>
          <p:cNvGrpSpPr/>
          <p:nvPr/>
        </p:nvGrpSpPr>
        <p:grpSpPr>
          <a:xfrm>
            <a:off x="250920" y="4392720"/>
            <a:ext cx="3275640" cy="1310400"/>
            <a:chOff x="250920" y="4392720"/>
            <a:chExt cx="3275640" cy="1310400"/>
          </a:xfrm>
        </p:grpSpPr>
        <p:grpSp>
          <p:nvGrpSpPr>
            <p:cNvPr id="607" name="组合 120842"/>
            <p:cNvGrpSpPr/>
            <p:nvPr/>
          </p:nvGrpSpPr>
          <p:grpSpPr>
            <a:xfrm>
              <a:off x="250920" y="4392720"/>
              <a:ext cx="3275640" cy="842760"/>
              <a:chOff x="250920" y="4392720"/>
              <a:chExt cx="3275640" cy="842760"/>
            </a:xfrm>
          </p:grpSpPr>
          <p:pic>
            <p:nvPicPr>
              <p:cNvPr id="608" name="图片 120843" descr="57"/>
              <p:cNvPicPr/>
              <p:nvPr/>
            </p:nvPicPr>
            <p:blipFill>
              <a:blip r:embed="rId2"/>
              <a:stretch/>
            </p:blipFill>
            <p:spPr>
              <a:xfrm>
                <a:off x="1174680" y="4392720"/>
                <a:ext cx="2351880" cy="84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图片 120844" descr="29(1)[1]"/>
              <p:cNvPicPr/>
              <p:nvPr/>
            </p:nvPicPr>
            <p:blipFill>
              <a:blip r:embed="rId3"/>
              <a:stretch/>
            </p:blipFill>
            <p:spPr>
              <a:xfrm>
                <a:off x="250920" y="4450680"/>
                <a:ext cx="1175760" cy="70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0" name="文本框 120845"/>
            <p:cNvSpPr/>
            <p:nvPr/>
          </p:nvSpPr>
          <p:spPr>
            <a:xfrm>
              <a:off x="1426680" y="4511880"/>
              <a:ext cx="20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Practi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文本框 120846"/>
          <p:cNvSpPr/>
          <p:nvPr/>
        </p:nvSpPr>
        <p:spPr>
          <a:xfrm>
            <a:off x="179280" y="5256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总而言之，这样更严格和专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l in 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it is more serious and professio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文本框 122890"/>
          <p:cNvSpPr/>
          <p:nvPr/>
        </p:nvSpPr>
        <p:spPr>
          <a:xfrm>
            <a:off x="285840" y="17136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It was so hot on th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low trai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慢车上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文本框 122891"/>
          <p:cNvSpPr/>
          <p:nvPr/>
        </p:nvSpPr>
        <p:spPr>
          <a:xfrm>
            <a:off x="358920" y="1368360"/>
            <a:ext cx="8497800" cy="1135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4f3"/>
                </a:solidFill>
                <a:latin typeface="Times New Roman"/>
              </a:rPr>
              <a:t>slow train “</a:t>
            </a:r>
            <a:r>
              <a:rPr b="1" lang="zh-CN" sz="3600" spc="-1" strike="noStrike">
                <a:solidFill>
                  <a:srgbClr val="0734f3"/>
                </a:solidFill>
                <a:latin typeface="Times New Roman"/>
                <a:ea typeface="宋体"/>
              </a:rPr>
              <a:t>慢车”，还可以说</a:t>
            </a:r>
            <a:r>
              <a:rPr b="1" lang="en-US" sz="3600" spc="-1" strike="noStrike">
                <a:solidFill>
                  <a:srgbClr val="0734f3"/>
                </a:solidFill>
                <a:latin typeface="Times New Roman"/>
              </a:rPr>
              <a:t>stopping train</a:t>
            </a:r>
            <a:r>
              <a:rPr b="1" lang="zh-CN" sz="3600" spc="-1" strike="noStrike">
                <a:solidFill>
                  <a:srgbClr val="0734f3"/>
                </a:solidFill>
                <a:latin typeface="Times New Roman"/>
                <a:ea typeface="宋体"/>
              </a:rPr>
              <a:t>。与之相对应的“快车”，英语是</a:t>
            </a:r>
            <a:r>
              <a:rPr b="1" lang="en-US" sz="3600" spc="-1" strike="noStrike">
                <a:solidFill>
                  <a:srgbClr val="0734f3"/>
                </a:solidFill>
                <a:latin typeface="Times New Roman"/>
              </a:rPr>
              <a:t>fast train, </a:t>
            </a:r>
            <a:r>
              <a:rPr b="1" lang="zh-CN" sz="3600" spc="-1" strike="noStrike">
                <a:solidFill>
                  <a:srgbClr val="0734f3"/>
                </a:solidFill>
                <a:latin typeface="Times New Roman"/>
                <a:ea typeface="宋体"/>
              </a:rPr>
              <a:t>却不是</a:t>
            </a:r>
            <a:r>
              <a:rPr b="1" lang="en-US" sz="3600" spc="-1" strike="noStrike">
                <a:solidFill>
                  <a:srgbClr val="0734f3"/>
                </a:solidFill>
                <a:latin typeface="Times New Roman"/>
              </a:rPr>
              <a:t>quick train</a:t>
            </a:r>
            <a:r>
              <a:rPr b="1" lang="zh-CN" sz="3600" spc="-1" strike="noStrike">
                <a:solidFill>
                  <a:srgbClr val="0734f3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文本框 122892"/>
          <p:cNvSpPr/>
          <p:nvPr/>
        </p:nvSpPr>
        <p:spPr>
          <a:xfrm>
            <a:off x="358920" y="3095640"/>
            <a:ext cx="83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low tra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not an exp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列慢车，不是快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组合 122893"/>
          <p:cNvGrpSpPr/>
          <p:nvPr/>
        </p:nvGrpSpPr>
        <p:grpSpPr>
          <a:xfrm>
            <a:off x="430200" y="4248000"/>
            <a:ext cx="3276000" cy="1310400"/>
            <a:chOff x="430200" y="4248000"/>
            <a:chExt cx="3276000" cy="1310400"/>
          </a:xfrm>
        </p:grpSpPr>
        <p:grpSp>
          <p:nvGrpSpPr>
            <p:cNvPr id="616" name="组合 122894"/>
            <p:cNvGrpSpPr/>
            <p:nvPr/>
          </p:nvGrpSpPr>
          <p:grpSpPr>
            <a:xfrm>
              <a:off x="430200" y="4248000"/>
              <a:ext cx="3276000" cy="843120"/>
              <a:chOff x="430200" y="4248000"/>
              <a:chExt cx="3276000" cy="843120"/>
            </a:xfrm>
          </p:grpSpPr>
          <p:pic>
            <p:nvPicPr>
              <p:cNvPr id="617" name="图片 122895" descr="57"/>
              <p:cNvPicPr/>
              <p:nvPr/>
            </p:nvPicPr>
            <p:blipFill>
              <a:blip r:embed="rId2"/>
              <a:stretch/>
            </p:blipFill>
            <p:spPr>
              <a:xfrm>
                <a:off x="1353960" y="4248000"/>
                <a:ext cx="2352240" cy="84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图片 122896" descr="29(1)[1]"/>
              <p:cNvPicPr/>
              <p:nvPr/>
            </p:nvPicPr>
            <p:blipFill>
              <a:blip r:embed="rId3"/>
              <a:stretch/>
            </p:blipFill>
            <p:spPr>
              <a:xfrm>
                <a:off x="430200" y="4305960"/>
                <a:ext cx="1175760" cy="704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9" name="文本框 122897"/>
            <p:cNvSpPr/>
            <p:nvPr/>
          </p:nvSpPr>
          <p:spPr>
            <a:xfrm>
              <a:off x="1605960" y="4367160"/>
              <a:ext cx="20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Practi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文本框 122898"/>
          <p:cNvSpPr/>
          <p:nvPr/>
        </p:nvSpPr>
        <p:spPr>
          <a:xfrm>
            <a:off x="698400" y="5459400"/>
            <a:ext cx="815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文本框 122899"/>
          <p:cNvSpPr/>
          <p:nvPr/>
        </p:nvSpPr>
        <p:spPr>
          <a:xfrm>
            <a:off x="681120" y="5040360"/>
            <a:ext cx="806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缩短路上所花的时间，我一般不买普客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reduce time wasted on the journey, 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ually don’t take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low tra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文本框 123905"/>
          <p:cNvSpPr/>
          <p:nvPr/>
        </p:nvSpPr>
        <p:spPr>
          <a:xfrm>
            <a:off x="324000" y="730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Everything was about robots and I’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 not interested 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所有一切说的都是机器人，我对那个没有兴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文本框 123906"/>
          <p:cNvSpPr/>
          <p:nvPr/>
        </p:nvSpPr>
        <p:spPr>
          <a:xfrm>
            <a:off x="322200" y="2328840"/>
            <a:ext cx="8497800" cy="614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4f3"/>
                </a:solidFill>
                <a:latin typeface="Times New Roman"/>
              </a:rPr>
              <a:t>be interested in  </a:t>
            </a:r>
            <a:r>
              <a:rPr b="1" lang="zh-CN" sz="3600" spc="-1" strike="noStrike">
                <a:solidFill>
                  <a:srgbClr val="0734f3"/>
                </a:solidFill>
                <a:latin typeface="Times New Roman"/>
                <a:ea typeface="宋体"/>
              </a:rPr>
              <a:t>对</a:t>
            </a:r>
            <a:r>
              <a:rPr b="1" lang="en-US" sz="3600" spc="-1" strike="noStrike">
                <a:solidFill>
                  <a:srgbClr val="0734f3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734f3"/>
                </a:solidFill>
                <a:latin typeface="Times New Roman"/>
                <a:ea typeface="宋体"/>
              </a:rPr>
              <a:t>感兴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文本框 123907"/>
          <p:cNvSpPr/>
          <p:nvPr/>
        </p:nvSpPr>
        <p:spPr>
          <a:xfrm>
            <a:off x="179280" y="30844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want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 interested 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at they are do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他们总希望对正在做着的事充满浓厚兴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组合 123908"/>
          <p:cNvGrpSpPr/>
          <p:nvPr/>
        </p:nvGrpSpPr>
        <p:grpSpPr>
          <a:xfrm>
            <a:off x="324000" y="4773600"/>
            <a:ext cx="3275640" cy="1310400"/>
            <a:chOff x="324000" y="4773600"/>
            <a:chExt cx="3275640" cy="1310400"/>
          </a:xfrm>
        </p:grpSpPr>
        <p:grpSp>
          <p:nvGrpSpPr>
            <p:cNvPr id="626" name="组合 123909"/>
            <p:cNvGrpSpPr/>
            <p:nvPr/>
          </p:nvGrpSpPr>
          <p:grpSpPr>
            <a:xfrm>
              <a:off x="324000" y="4773600"/>
              <a:ext cx="3275640" cy="843120"/>
              <a:chOff x="324000" y="4773600"/>
              <a:chExt cx="3275640" cy="843120"/>
            </a:xfrm>
          </p:grpSpPr>
          <p:pic>
            <p:nvPicPr>
              <p:cNvPr id="627" name="图片 123910" descr="57"/>
              <p:cNvPicPr/>
              <p:nvPr/>
            </p:nvPicPr>
            <p:blipFill>
              <a:blip r:embed="rId2"/>
              <a:stretch/>
            </p:blipFill>
            <p:spPr>
              <a:xfrm>
                <a:off x="1247760" y="4773600"/>
                <a:ext cx="2351880" cy="84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图片 123911" descr="29(1)[1]"/>
              <p:cNvPicPr/>
              <p:nvPr/>
            </p:nvPicPr>
            <p:blipFill>
              <a:blip r:embed="rId3"/>
              <a:stretch/>
            </p:blipFill>
            <p:spPr>
              <a:xfrm>
                <a:off x="324000" y="4831560"/>
                <a:ext cx="1175760" cy="704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9" name="文本框 123912"/>
            <p:cNvSpPr/>
            <p:nvPr/>
          </p:nvSpPr>
          <p:spPr>
            <a:xfrm>
              <a:off x="1499760" y="4892760"/>
              <a:ext cx="20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Practi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文本框 123913"/>
          <p:cNvSpPr/>
          <p:nvPr/>
        </p:nvSpPr>
        <p:spPr>
          <a:xfrm>
            <a:off x="324000" y="5616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他对画画很有兴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interested 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ain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文本框 124929"/>
          <p:cNvSpPr/>
          <p:nvPr/>
        </p:nvSpPr>
        <p:spPr>
          <a:xfrm>
            <a:off x="250920" y="100080"/>
            <a:ext cx="849636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 I did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n’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like the trip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t 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一点都不喜欢这次行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文本框 124930"/>
          <p:cNvSpPr/>
          <p:nvPr/>
        </p:nvSpPr>
        <p:spPr>
          <a:xfrm>
            <a:off x="250920" y="1297080"/>
            <a:ext cx="8496360" cy="6699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ot at all/not…at all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相当于“根本不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;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完全不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文本框 124931"/>
          <p:cNvSpPr/>
          <p:nvPr/>
        </p:nvSpPr>
        <p:spPr>
          <a:xfrm>
            <a:off x="250920" y="252108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’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ke mutto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t 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一点都不喜欢羊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’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 at 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good at badmint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她完全不擅长打羽毛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组合 124932"/>
          <p:cNvGrpSpPr/>
          <p:nvPr/>
        </p:nvGrpSpPr>
        <p:grpSpPr>
          <a:xfrm>
            <a:off x="250920" y="4753080"/>
            <a:ext cx="3275640" cy="1310400"/>
            <a:chOff x="250920" y="4753080"/>
            <a:chExt cx="3275640" cy="1310400"/>
          </a:xfrm>
        </p:grpSpPr>
        <p:grpSp>
          <p:nvGrpSpPr>
            <p:cNvPr id="635" name="组合 124933"/>
            <p:cNvGrpSpPr/>
            <p:nvPr/>
          </p:nvGrpSpPr>
          <p:grpSpPr>
            <a:xfrm>
              <a:off x="250920" y="4753080"/>
              <a:ext cx="3275640" cy="842760"/>
              <a:chOff x="250920" y="4753080"/>
              <a:chExt cx="3275640" cy="842760"/>
            </a:xfrm>
          </p:grpSpPr>
          <p:pic>
            <p:nvPicPr>
              <p:cNvPr id="636" name="图片 124934" descr="57"/>
              <p:cNvPicPr/>
              <p:nvPr/>
            </p:nvPicPr>
            <p:blipFill>
              <a:blip r:embed="rId2"/>
              <a:stretch/>
            </p:blipFill>
            <p:spPr>
              <a:xfrm>
                <a:off x="1174680" y="4753080"/>
                <a:ext cx="2351880" cy="84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7" name="图片 124935" descr="29(1)[1]"/>
              <p:cNvPicPr/>
              <p:nvPr/>
            </p:nvPicPr>
            <p:blipFill>
              <a:blip r:embed="rId3"/>
              <a:stretch/>
            </p:blipFill>
            <p:spPr>
              <a:xfrm>
                <a:off x="250920" y="4811040"/>
                <a:ext cx="1175760" cy="70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8" name="文本框 124936"/>
            <p:cNvSpPr/>
            <p:nvPr/>
          </p:nvSpPr>
          <p:spPr>
            <a:xfrm>
              <a:off x="1426680" y="4872240"/>
              <a:ext cx="20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Practi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文本框 124937"/>
          <p:cNvSpPr/>
          <p:nvPr/>
        </p:nvSpPr>
        <p:spPr>
          <a:xfrm>
            <a:off x="303120" y="560376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她一点儿也不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i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a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t 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图片 39937" descr="图片1657567"/>
          <p:cNvPicPr/>
          <p:nvPr/>
        </p:nvPicPr>
        <p:blipFill>
          <a:blip r:embed="rId2"/>
          <a:stretch/>
        </p:blipFill>
        <p:spPr>
          <a:xfrm>
            <a:off x="684360" y="333360"/>
            <a:ext cx="4317840" cy="530712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39938" descr="u=3880771491,2905302234&amp;fm=0&amp;gp=0[1]"/>
          <p:cNvPicPr/>
          <p:nvPr/>
        </p:nvPicPr>
        <p:blipFill>
          <a:blip r:embed="rId3"/>
          <a:stretch/>
        </p:blipFill>
        <p:spPr>
          <a:xfrm>
            <a:off x="5724360" y="2316240"/>
            <a:ext cx="1151280" cy="1150920"/>
          </a:xfrm>
          <a:prstGeom prst="rect">
            <a:avLst/>
          </a:prstGeom>
          <a:ln w="0">
            <a:noFill/>
          </a:ln>
        </p:spPr>
      </p:pic>
      <p:sp>
        <p:nvSpPr>
          <p:cNvPr id="642" name="文本框 39939"/>
          <p:cNvSpPr/>
          <p:nvPr/>
        </p:nvSpPr>
        <p:spPr>
          <a:xfrm>
            <a:off x="4140360" y="1125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另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文档。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点击此处链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132099"/>
          <p:cNvSpPr/>
          <p:nvPr/>
        </p:nvSpPr>
        <p:spPr>
          <a:xfrm>
            <a:off x="179280" y="608040"/>
            <a:ext cx="8713800" cy="5580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根据句意及汉语提示完成单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e learned a lot about history in the 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博物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Alice is a smart and 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可爱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gir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--Why didn’t you buy the iPhone6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Because it was too __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昂贵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e went to the shop and bought some 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礼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for his frie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I’m sorry, I didn’t 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听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what you sa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文本框 132100"/>
          <p:cNvSpPr/>
          <p:nvPr/>
        </p:nvSpPr>
        <p:spPr>
          <a:xfrm>
            <a:off x="179280" y="161604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use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文本框 132101"/>
          <p:cNvSpPr/>
          <p:nvPr/>
        </p:nvSpPr>
        <p:spPr>
          <a:xfrm>
            <a:off x="4952880" y="22068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文本框 132102"/>
          <p:cNvSpPr/>
          <p:nvPr/>
        </p:nvSpPr>
        <p:spPr>
          <a:xfrm>
            <a:off x="4714920" y="38624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文本框 132103"/>
          <p:cNvSpPr/>
          <p:nvPr/>
        </p:nvSpPr>
        <p:spPr>
          <a:xfrm>
            <a:off x="703440" y="4941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f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文本框 132104"/>
          <p:cNvSpPr/>
          <p:nvPr/>
        </p:nvSpPr>
        <p:spPr>
          <a:xfrm>
            <a:off x="4664160" y="551808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文本框 134151"/>
          <p:cNvSpPr/>
          <p:nvPr/>
        </p:nvSpPr>
        <p:spPr>
          <a:xfrm>
            <a:off x="179280" y="404640"/>
            <a:ext cx="8425080" cy="55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Ⅱ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根据对话内容用合适的单词填空，补全对话。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ere did your class go on last schoo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We ________ to the b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To the beach? What did you do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Some of us went swimming and oth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ked on the b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That _______  great. I would like to 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some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矩形 134152"/>
          <p:cNvSpPr/>
          <p:nvPr/>
        </p:nvSpPr>
        <p:spPr>
          <a:xfrm>
            <a:off x="1908000" y="28526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矩形 134153"/>
          <p:cNvSpPr/>
          <p:nvPr/>
        </p:nvSpPr>
        <p:spPr>
          <a:xfrm>
            <a:off x="1980000" y="530064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135169"/>
          <p:cNvSpPr/>
          <p:nvPr/>
        </p:nvSpPr>
        <p:spPr>
          <a:xfrm>
            <a:off x="250920" y="1162080"/>
            <a:ext cx="86421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And what ____ your class do ____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 tr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e went hiking in the moun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Go hiking? I know it’s an exciting spo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was your school tr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ell, we felt tired, but we ___ a lo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Great! I hope I can join you nex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矩形 135170"/>
          <p:cNvSpPr/>
          <p:nvPr/>
        </p:nvSpPr>
        <p:spPr>
          <a:xfrm>
            <a:off x="6734520" y="123336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矩形 135171"/>
          <p:cNvSpPr/>
          <p:nvPr/>
        </p:nvSpPr>
        <p:spPr>
          <a:xfrm>
            <a:off x="901800" y="3905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矩形 135172"/>
          <p:cNvSpPr/>
          <p:nvPr/>
        </p:nvSpPr>
        <p:spPr>
          <a:xfrm>
            <a:off x="5941440" y="454644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矩形 135173"/>
          <p:cNvSpPr/>
          <p:nvPr/>
        </p:nvSpPr>
        <p:spPr>
          <a:xfrm>
            <a:off x="2989080" y="1241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9"/>
          <p:cNvSpPr/>
          <p:nvPr/>
        </p:nvSpPr>
        <p:spPr>
          <a:xfrm>
            <a:off x="250920" y="1152360"/>
            <a:ext cx="806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Ⅲ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late and write them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文本框 136194"/>
          <p:cNvSpPr/>
          <p:nvPr/>
        </p:nvSpPr>
        <p:spPr>
          <a:xfrm>
            <a:off x="324000" y="1989000"/>
            <a:ext cx="8785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一点都不喜欢那次旅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参观了科学博物馆，这很有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矩形 136195"/>
          <p:cNvSpPr/>
          <p:nvPr/>
        </p:nvSpPr>
        <p:spPr>
          <a:xfrm>
            <a:off x="828720" y="2903400"/>
            <a:ext cx="554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didn’t like the trip at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文本框 136196"/>
          <p:cNvSpPr/>
          <p:nvPr/>
        </p:nvSpPr>
        <p:spPr>
          <a:xfrm>
            <a:off x="755640" y="4724280"/>
            <a:ext cx="74883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 visited the science museum and it was really interes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74755"/>
          <p:cNvSpPr/>
          <p:nvPr/>
        </p:nvSpPr>
        <p:spPr>
          <a:xfrm>
            <a:off x="396720" y="1773360"/>
            <a:ext cx="2340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vely    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e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obot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文本框 74756"/>
          <p:cNvSpPr/>
          <p:nvPr/>
        </p:nvSpPr>
        <p:spPr>
          <a:xfrm>
            <a:off x="2843280" y="1773360"/>
            <a:ext cx="6300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使人兴奋的；令人激动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可爱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昂贵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廉价的；便宜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缓慢的；迟缓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v.&amp;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快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组合 74764"/>
          <p:cNvGrpSpPr/>
          <p:nvPr/>
        </p:nvGrpSpPr>
        <p:grpSpPr>
          <a:xfrm>
            <a:off x="1187280" y="333360"/>
            <a:ext cx="6934320" cy="1066680"/>
            <a:chOff x="1187280" y="333360"/>
            <a:chExt cx="6934320" cy="1066680"/>
          </a:xfrm>
        </p:grpSpPr>
        <p:pic>
          <p:nvPicPr>
            <p:cNvPr id="559" name="图片 74765" descr="tree frasme a"/>
            <p:cNvPicPr/>
            <p:nvPr/>
          </p:nvPicPr>
          <p:blipFill>
            <a:blip r:embed="rId1"/>
            <a:stretch/>
          </p:blipFill>
          <p:spPr>
            <a:xfrm>
              <a:off x="1187280" y="333360"/>
              <a:ext cx="6934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文本框 74766"/>
            <p:cNvSpPr/>
            <p:nvPr/>
          </p:nvSpPr>
          <p:spPr>
            <a:xfrm>
              <a:off x="2025720" y="638280"/>
              <a:ext cx="477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Words revie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文本框 137217"/>
          <p:cNvSpPr/>
          <p:nvPr/>
        </p:nvSpPr>
        <p:spPr>
          <a:xfrm>
            <a:off x="181080" y="457200"/>
            <a:ext cx="8893080" cy="61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之后，我去礼品店给我父母买了一些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看的礼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fter that, I went to the gift shop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ught some lovely gifts for my parent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昨天乘火车去了博物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 took the train to the museu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ester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从来不知道机器人可以跟我们下棋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didn’t know the robots could play che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6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116741"/>
          <p:cNvSpPr/>
          <p:nvPr/>
        </p:nvSpPr>
        <p:spPr>
          <a:xfrm>
            <a:off x="324000" y="11700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Now 2 mins to test your spel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矩形 116742"/>
          <p:cNvSpPr txBox="1"/>
          <p:nvPr/>
        </p:nvSpPr>
        <p:spPr>
          <a:xfrm>
            <a:off x="2610000" y="331920"/>
            <a:ext cx="329544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Spelling Bee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4" name="文本框 116743"/>
          <p:cNvSpPr/>
          <p:nvPr/>
        </p:nvSpPr>
        <p:spPr>
          <a:xfrm>
            <a:off x="476280" y="1855800"/>
            <a:ext cx="8229600" cy="322452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English-Chin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citing  expensive  robot  guide    h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Chinese-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便宜的；缓慢的；所有事物，一切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感兴趣的；黑暗的；可爱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文本框 116744"/>
          <p:cNvSpPr/>
          <p:nvPr/>
        </p:nvSpPr>
        <p:spPr>
          <a:xfrm>
            <a:off x="627120" y="5111640"/>
            <a:ext cx="784872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When finishing, exchange your papers to see who does the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图片 116745" descr="th (5)"/>
          <p:cNvPicPr/>
          <p:nvPr/>
        </p:nvPicPr>
        <p:blipFill>
          <a:blip r:embed="rId2"/>
          <a:stretch/>
        </p:blipFill>
        <p:spPr>
          <a:xfrm>
            <a:off x="6343560" y="103320"/>
            <a:ext cx="1376280" cy="11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矩形 48129"/>
          <p:cNvSpPr txBox="1"/>
          <p:nvPr/>
        </p:nvSpPr>
        <p:spPr>
          <a:xfrm>
            <a:off x="1042920" y="1081080"/>
            <a:ext cx="33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Review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8" name="文本框 48130"/>
          <p:cNvSpPr/>
          <p:nvPr/>
        </p:nvSpPr>
        <p:spPr>
          <a:xfrm>
            <a:off x="4498920" y="11318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课时重点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文本框 48131"/>
          <p:cNvSpPr/>
          <p:nvPr/>
        </p:nvSpPr>
        <p:spPr>
          <a:xfrm>
            <a:off x="1042920" y="1996920"/>
            <a:ext cx="58327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play… with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all in a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low t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e (not) interested i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not… at a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文本框 49154"/>
          <p:cNvSpPr/>
          <p:nvPr/>
        </p:nvSpPr>
        <p:spPr>
          <a:xfrm>
            <a:off x="898560" y="2668680"/>
            <a:ext cx="6624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iew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w words and expressions in Unit 1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lin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sentences you don’t underst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Unit 1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图片 49155" descr="心1"/>
          <p:cNvPicPr/>
          <p:nvPr/>
        </p:nvPicPr>
        <p:blipFill>
          <a:blip r:embed="rId2"/>
          <a:stretch/>
        </p:blipFill>
        <p:spPr>
          <a:xfrm>
            <a:off x="538200" y="3029040"/>
            <a:ext cx="349200" cy="29520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49156" descr="心1"/>
          <p:cNvPicPr/>
          <p:nvPr/>
        </p:nvPicPr>
        <p:blipFill>
          <a:blip r:embed="rId3"/>
          <a:stretch/>
        </p:blipFill>
        <p:spPr>
          <a:xfrm>
            <a:off x="538200" y="4395960"/>
            <a:ext cx="349200" cy="295200"/>
          </a:xfrm>
          <a:prstGeom prst="rect">
            <a:avLst/>
          </a:prstGeom>
          <a:ln w="0">
            <a:noFill/>
          </a:ln>
        </p:spPr>
      </p:pic>
      <p:sp>
        <p:nvSpPr>
          <p:cNvPr id="673" name="文本框 49157"/>
          <p:cNvSpPr/>
          <p:nvPr/>
        </p:nvSpPr>
        <p:spPr>
          <a:xfrm>
            <a:off x="2411280" y="11970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文本框 75782"/>
          <p:cNvSpPr/>
          <p:nvPr/>
        </p:nvSpPr>
        <p:spPr>
          <a:xfrm>
            <a:off x="-142920" y="1557360"/>
            <a:ext cx="381636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if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teres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 interest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文本框 75783"/>
          <p:cNvSpPr/>
          <p:nvPr/>
        </p:nvSpPr>
        <p:spPr>
          <a:xfrm>
            <a:off x="4105440" y="1557360"/>
            <a:ext cx="50050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导游；向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礼物；赠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总的说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所有事物；一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感兴趣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感兴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黑暗的；昏暗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heard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听到；听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组合 75788"/>
          <p:cNvGrpSpPr/>
          <p:nvPr/>
        </p:nvGrpSpPr>
        <p:grpSpPr>
          <a:xfrm>
            <a:off x="1258920" y="274680"/>
            <a:ext cx="6934320" cy="1066680"/>
            <a:chOff x="1258920" y="274680"/>
            <a:chExt cx="6934320" cy="1066680"/>
          </a:xfrm>
        </p:grpSpPr>
        <p:pic>
          <p:nvPicPr>
            <p:cNvPr id="564" name="图片 75789" descr="tree frasme a"/>
            <p:cNvPicPr/>
            <p:nvPr/>
          </p:nvPicPr>
          <p:blipFill>
            <a:blip r:embed="rId1"/>
            <a:stretch/>
          </p:blipFill>
          <p:spPr>
            <a:xfrm>
              <a:off x="1258920" y="274680"/>
              <a:ext cx="6934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文本框 75790"/>
            <p:cNvSpPr/>
            <p:nvPr/>
          </p:nvSpPr>
          <p:spPr>
            <a:xfrm>
              <a:off x="2098800" y="579600"/>
              <a:ext cx="501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Words &amp; phrases revie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文本框 4"/>
          <p:cNvSpPr/>
          <p:nvPr/>
        </p:nvSpPr>
        <p:spPr>
          <a:xfrm>
            <a:off x="612720" y="353880"/>
            <a:ext cx="352764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参加校外郊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参观科学博物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沿途；一路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某人下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许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总之；总的说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感兴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做某事是困难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点也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文本框 5"/>
          <p:cNvSpPr/>
          <p:nvPr/>
        </p:nvSpPr>
        <p:spPr>
          <a:xfrm>
            <a:off x="4392720" y="379440"/>
            <a:ext cx="4643280" cy="65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go on a school tr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isit the science muse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long th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lay chess with 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 lo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ll i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e interest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t is difficult to do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not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矩形 87070"/>
          <p:cNvSpPr txBox="1"/>
          <p:nvPr/>
        </p:nvSpPr>
        <p:spPr>
          <a:xfrm>
            <a:off x="104760" y="260280"/>
            <a:ext cx="144288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734f3"/>
                  </a:solidFill>
                  <a:round/>
                </a:ln>
                <a:solidFill>
                  <a:srgbClr val="0734f3"/>
                </a:solidFill>
                <a:latin typeface="宋体"/>
              </a:rPr>
              <a:t>汉译英</a:t>
            </a:r>
            <a:endParaRPr b="0" lang="en-US" sz="3600" spc="1" strike="noStrike">
              <a:ln w="9360">
                <a:solidFill>
                  <a:srgbClr val="0734f3"/>
                </a:solidFill>
                <a:round/>
              </a:ln>
              <a:solidFill>
                <a:srgbClr val="0734f3"/>
              </a:solidFill>
              <a:latin typeface="宋体"/>
              <a:ea typeface="宋体"/>
            </a:endParaRPr>
          </a:p>
        </p:txBody>
      </p:sp>
    </p:spTree>
  </p:cSld>
  <p:transition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文本框 142346"/>
          <p:cNvSpPr/>
          <p:nvPr/>
        </p:nvSpPr>
        <p:spPr>
          <a:xfrm>
            <a:off x="-36360" y="19080"/>
            <a:ext cx="838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ok at the pictures of Bob’s school tr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swer the following question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图片 142347" descr="IMG_20130227_090457"/>
          <p:cNvPicPr/>
          <p:nvPr/>
        </p:nvPicPr>
        <p:blipFill>
          <a:blip r:embed="rId2"/>
          <a:stretch/>
        </p:blipFill>
        <p:spPr>
          <a:xfrm>
            <a:off x="109440" y="1028880"/>
            <a:ext cx="7848720" cy="147132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142348"/>
          <p:cNvSpPr/>
          <p:nvPr/>
        </p:nvSpPr>
        <p:spPr>
          <a:xfrm>
            <a:off x="-34920" y="2214720"/>
            <a:ext cx="835344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ere did Bob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ow did he go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at did he se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at did he do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文本框 142349"/>
          <p:cNvSpPr/>
          <p:nvPr/>
        </p:nvSpPr>
        <p:spPr>
          <a:xfrm>
            <a:off x="396720" y="285912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b went to a zo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文本框 142350"/>
          <p:cNvSpPr/>
          <p:nvPr/>
        </p:nvSpPr>
        <p:spPr>
          <a:xfrm>
            <a:off x="396720" y="39481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took a bus to go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文本框 142351"/>
          <p:cNvSpPr/>
          <p:nvPr/>
        </p:nvSpPr>
        <p:spPr>
          <a:xfrm>
            <a:off x="398520" y="49449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saw many anim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文本框 142352"/>
          <p:cNvSpPr/>
          <p:nvPr/>
        </p:nvSpPr>
        <p:spPr>
          <a:xfrm>
            <a:off x="396720" y="6093000"/>
            <a:ext cx="8713800" cy="1191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took some photos and bought some gif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101387" descr="2b3158fff1647236d841cd3e043cb176"/>
          <p:cNvPicPr/>
          <p:nvPr/>
        </p:nvPicPr>
        <p:blipFill>
          <a:blip r:embed="rId2"/>
          <a:stretch/>
        </p:blipFill>
        <p:spPr>
          <a:xfrm>
            <a:off x="971640" y="260280"/>
            <a:ext cx="1152360" cy="1117800"/>
          </a:xfrm>
          <a:prstGeom prst="rect">
            <a:avLst/>
          </a:prstGeom>
          <a:ln w="0">
            <a:noFill/>
          </a:ln>
        </p:spPr>
      </p:pic>
      <p:sp>
        <p:nvSpPr>
          <p:cNvPr id="577" name="文本框 101388"/>
          <p:cNvSpPr/>
          <p:nvPr/>
        </p:nvSpPr>
        <p:spPr>
          <a:xfrm>
            <a:off x="2124000" y="41112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lete his diary en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文本框 101389"/>
          <p:cNvSpPr/>
          <p:nvPr/>
        </p:nvSpPr>
        <p:spPr>
          <a:xfrm>
            <a:off x="468360" y="1628640"/>
            <a:ext cx="821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une 23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terday my school visited the zoo. It was really __________. We went there by bus. At the zoo, I saw a lot of _______ and I took some photos. My classmates and I also went to the ________ and bought some ____. It was a great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文本框 101390"/>
          <p:cNvSpPr/>
          <p:nvPr/>
        </p:nvSpPr>
        <p:spPr>
          <a:xfrm>
            <a:off x="2700360" y="2709720"/>
            <a:ext cx="25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e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文本框 101391"/>
          <p:cNvSpPr/>
          <p:nvPr/>
        </p:nvSpPr>
        <p:spPr>
          <a:xfrm>
            <a:off x="6804000" y="3292560"/>
            <a:ext cx="25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文本框 101392"/>
          <p:cNvSpPr/>
          <p:nvPr/>
        </p:nvSpPr>
        <p:spPr>
          <a:xfrm>
            <a:off x="4786200" y="4371840"/>
            <a:ext cx="25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ft sh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文本框 101393"/>
          <p:cNvSpPr/>
          <p:nvPr/>
        </p:nvSpPr>
        <p:spPr>
          <a:xfrm>
            <a:off x="3059280" y="4869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f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椭圆 101394"/>
          <p:cNvSpPr/>
          <p:nvPr/>
        </p:nvSpPr>
        <p:spPr>
          <a:xfrm>
            <a:off x="108000" y="189000"/>
            <a:ext cx="576360" cy="503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d3"/>
                </a:solidFill>
                <a:latin typeface="Times New Roman"/>
                <a:ea typeface="黑体"/>
              </a:rPr>
              <a:t>3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椭圆 101395"/>
          <p:cNvSpPr/>
          <p:nvPr/>
        </p:nvSpPr>
        <p:spPr>
          <a:xfrm>
            <a:off x="6084720" y="1052640"/>
            <a:ext cx="100836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700e2"/>
                </a:solidFill>
                <a:latin typeface="Arial Black"/>
                <a:ea typeface="黑体"/>
              </a:rPr>
              <a:t>P6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文本框 103429"/>
          <p:cNvSpPr/>
          <p:nvPr/>
        </p:nvSpPr>
        <p:spPr>
          <a:xfrm>
            <a:off x="468360" y="1838160"/>
            <a:ext cx="8496360" cy="393444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June 23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y school went to the zoo yesterday. The trip was ______. At the zoo, I ________________ but I didn’t like them. I also went to ___________ with my classmates, but I didn’t buy anything because 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. It was a boring 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椭圆 103430"/>
          <p:cNvSpPr/>
          <p:nvPr/>
        </p:nvSpPr>
        <p:spPr>
          <a:xfrm>
            <a:off x="322200" y="685800"/>
            <a:ext cx="504720" cy="503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d4dd3"/>
                </a:solidFill>
                <a:latin typeface="Arial Black"/>
                <a:ea typeface="黑体"/>
              </a:rPr>
              <a:t>3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文本框 103431"/>
          <p:cNvSpPr/>
          <p:nvPr/>
        </p:nvSpPr>
        <p:spPr>
          <a:xfrm>
            <a:off x="755640" y="685800"/>
            <a:ext cx="806436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inda is Bob’s classmate. Complete her diary entr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文本框 103432"/>
          <p:cNvSpPr/>
          <p:nvPr/>
        </p:nvSpPr>
        <p:spPr>
          <a:xfrm>
            <a:off x="2195640" y="2917800"/>
            <a:ext cx="25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文本框 103433"/>
          <p:cNvSpPr/>
          <p:nvPr/>
        </p:nvSpPr>
        <p:spPr>
          <a:xfrm>
            <a:off x="539640" y="34941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aw many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文本框 103434"/>
          <p:cNvSpPr/>
          <p:nvPr/>
        </p:nvSpPr>
        <p:spPr>
          <a:xfrm>
            <a:off x="3276720" y="40705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gift sh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文本框 103435"/>
          <p:cNvSpPr/>
          <p:nvPr/>
        </p:nvSpPr>
        <p:spPr>
          <a:xfrm>
            <a:off x="2193840" y="515628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y were so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椭圆 103436"/>
          <p:cNvSpPr/>
          <p:nvPr/>
        </p:nvSpPr>
        <p:spPr>
          <a:xfrm>
            <a:off x="6084720" y="1189080"/>
            <a:ext cx="100836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700e2"/>
                </a:solidFill>
                <a:latin typeface="Arial Black"/>
                <a:ea typeface="黑体"/>
              </a:rPr>
              <a:t>P6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46"/>
          <p:cNvSpPr/>
          <p:nvPr/>
        </p:nvSpPr>
        <p:spPr>
          <a:xfrm>
            <a:off x="539640" y="692280"/>
            <a:ext cx="7991640" cy="5329080"/>
          </a:xfrm>
          <a:prstGeom prst="foldedCorner">
            <a:avLst>
              <a:gd name="adj" fmla="val 19222"/>
            </a:avLst>
          </a:prstGeom>
          <a:solidFill>
            <a:srgbClr val="ffffff">
              <a:alpha val="94000"/>
            </a:srgbClr>
          </a:solidFill>
          <a:ln w="5724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12" descr="200511141312986692"/>
          <p:cNvPicPr/>
          <p:nvPr/>
        </p:nvPicPr>
        <p:blipFill>
          <a:blip r:embed="rId2"/>
          <a:srcRect l="0" t="35349" r="0" b="0"/>
          <a:stretch/>
        </p:blipFill>
        <p:spPr>
          <a:xfrm>
            <a:off x="611280" y="4076640"/>
            <a:ext cx="4500360" cy="1935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child"/>
          <p:cNvPicPr/>
          <p:nvPr/>
        </p:nvPicPr>
        <p:blipFill>
          <a:blip r:embed="rId3"/>
          <a:stretch/>
        </p:blipFill>
        <p:spPr>
          <a:xfrm>
            <a:off x="5580000" y="765000"/>
            <a:ext cx="2900520" cy="217836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4"/>
          <p:cNvSpPr/>
          <p:nvPr/>
        </p:nvSpPr>
        <p:spPr>
          <a:xfrm>
            <a:off x="1042920" y="2708280"/>
            <a:ext cx="71294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Now write a diary entry for your own school trip. Explain if you liked it or didn’t like it and wh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1045800" y="19890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3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椭圆 109591"/>
          <p:cNvSpPr/>
          <p:nvPr/>
        </p:nvSpPr>
        <p:spPr>
          <a:xfrm>
            <a:off x="2124000" y="2205000"/>
            <a:ext cx="100800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700e2"/>
                </a:solidFill>
                <a:latin typeface="Arial Black"/>
                <a:ea typeface="黑体"/>
              </a:rPr>
              <a:t>P6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111623"/>
          <p:cNvSpPr/>
          <p:nvPr/>
        </p:nvSpPr>
        <p:spPr>
          <a:xfrm>
            <a:off x="324000" y="86832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terday w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n a school trip to a bicycle museum. My friend Bill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k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t a lot. He reall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k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looking at the old bikes. But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 enjoy the museum very much. I am not really interested in bicycles. I like computers more. Also, the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 many people at the museum, and the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very noisy. The museum restauran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xpensive, too. I hope we can go to a computer museum next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文本框 111624"/>
          <p:cNvSpPr/>
          <p:nvPr/>
        </p:nvSpPr>
        <p:spPr>
          <a:xfrm>
            <a:off x="324000" y="2667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31T17:05:39Z</dcterms:created>
  <dc:creator>微软用户</dc:creator>
  <dc:description/>
  <dc:language>en-US</dc:language>
  <cp:lastModifiedBy>Administrator</cp:lastModifiedBy>
  <dcterms:modified xsi:type="dcterms:W3CDTF">2018-06-21T00:06:08Z</dcterms:modified>
  <cp:revision>2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